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highchime.wav" ContentType="audio/x-wav"/>
  <Override PartName="/ppt/media/zapbig0g.wav" ContentType="audio/x-wav"/>
  <Override PartName="/ppt/media/bserie06.wav" ContentType="audio/x-wav"/>
  <Override PartName="/ppt/media/jetflyby2.wav" ContentType="audio/x-wav"/>
  <Override PartName="/ppt/media/children%20wow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4DE3-2F5D-4228-87F5-213DBA280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0A81-3B88-4D90-9F11-A04386AD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5402-5DC2-4071-AE58-2C0BED146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A1A5-5DE8-4E49-A38F-71E67AAD4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947D-3936-40BE-A737-F0288328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3322-8822-454B-B9D2-180B73D3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92F0-0B23-4259-99A2-218E71CA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3859-A15C-4788-AD65-0EC7B697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5EC1-9608-4CF7-970C-8FB01B20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84A4-B60E-4928-9806-2D4A3397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11B8-27FA-4E24-99C5-9EAFA19A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0BF0-DC2A-4978-867A-E1E9C520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BF13-17EB-4D4D-AFF6-B60D17BF8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zapbig0g.wav"/><Relationship Id="rId3" Type="http://schemas.openxmlformats.org/officeDocument/2006/relationships/audio" Target="../media/bserie06.wav"/><Relationship Id="rId4" Type="http://schemas.openxmlformats.org/officeDocument/2006/relationships/audio" Target="../media/zapbig0g.wav"/><Relationship Id="rId5" Type="http://schemas.openxmlformats.org/officeDocument/2006/relationships/audio" Target="../media/bserie06.wav"/><Relationship Id="rId6" Type="http://schemas.openxmlformats.org/officeDocument/2006/relationships/audio" Target="../media/zapbig0g.wav"/><Relationship Id="rId7" Type="http://schemas.openxmlformats.org/officeDocument/2006/relationships/audio" Target="../media/bserie06.wav"/><Relationship Id="rId8" Type="http://schemas.openxmlformats.org/officeDocument/2006/relationships/audio" Target="../media/zapbig0g.wav"/><Relationship Id="rId9" Type="http://schemas.openxmlformats.org/officeDocument/2006/relationships/audio" Target="../media/bserie06.wav"/><Relationship Id="rId10" Type="http://schemas.openxmlformats.org/officeDocument/2006/relationships/audio" Target="../media/zapbig0g.wav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zapbig0g.wav"/><Relationship Id="rId3" Type="http://schemas.openxmlformats.org/officeDocument/2006/relationships/audio" Target="../media/bserie06.wav"/><Relationship Id="rId4" Type="http://schemas.openxmlformats.org/officeDocument/2006/relationships/audio" Target="../media/zapbig0g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children%20wow.wav"/><Relationship Id="rId6" Type="http://schemas.openxmlformats.org/officeDocument/2006/relationships/audio" Target="../media/bserie06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children%20wow.wav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children%20wow.wav"/><Relationship Id="rId7" Type="http://schemas.openxmlformats.org/officeDocument/2006/relationships/audio" Target="../media/bserie06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children%20wow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To find the value of a number expression, do the operati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8280" y="2274840"/>
            <a:ext cx="319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.  9 + 7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01920" y="3092400"/>
            <a:ext cx="105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Find the value of ea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97600" y="3090960"/>
            <a:ext cx="105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805280" y="2382840"/>
                <a:ext cx="260208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÷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1411200" y="5056200"/>
            <a:ext cx="105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79520" y="4192560"/>
                <a:ext cx="201924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5464080" y="5054760"/>
            <a:ext cx="105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4756320" y="4302000"/>
                <a:ext cx="1571400" cy="7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09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To find the value of a number expression, do the operati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676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Find the value of ea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31960" y="3137040"/>
            <a:ext cx="105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544680" y="2413080"/>
                <a:ext cx="22874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5388120" y="3149640"/>
            <a:ext cx="137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4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392720" y="2428920"/>
                <a:ext cx="251460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7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09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To find the value of a number expression, do the operati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676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implify by using the order of opera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47760" y="2336760"/>
                <a:ext cx="34988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8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×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639880" y="3174840"/>
                <a:ext cx="806760" cy="7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327320" y="3173400"/>
                <a:ext cx="129852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239920" y="3919680"/>
                <a:ext cx="4478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405320" y="2281320"/>
                <a:ext cx="45752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÷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6980400" y="3181320"/>
                <a:ext cx="4921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800680" y="3165480"/>
                <a:ext cx="27781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6450120" y="3938760"/>
                <a:ext cx="493560" cy="71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6953400" y="3932280"/>
                <a:ext cx="10317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6993000" y="4749840"/>
                <a:ext cx="4921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609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To find the value of a number expression, do the operati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676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implify by using the order of opera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98440" y="2306520"/>
                <a:ext cx="385920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÷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368440" y="3122640"/>
                <a:ext cx="4478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082520" y="3106800"/>
                <a:ext cx="286560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÷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174760" y="4807080"/>
                <a:ext cx="76212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908440" y="3911760"/>
                <a:ext cx="4935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508040" y="3908520"/>
                <a:ext cx="13017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626000" y="2320920"/>
                <a:ext cx="385920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÷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648400" y="3138480"/>
                <a:ext cx="80640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6483240" y="3106800"/>
                <a:ext cx="197028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÷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6496200" y="4829040"/>
                <a:ext cx="80640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7251840" y="3911760"/>
                <a:ext cx="4935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5851440" y="3908520"/>
                <a:ext cx="13017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53828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35, 2 – 1 #1-20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37, 2 – 2 #1-18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4-08-19T13:57:12Z</dcterms:modified>
  <cp:revision>50</cp:revision>
  <dc:subject/>
  <dc:title>Slide 1</dc:title>
</cp:coreProperties>
</file>